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417-21CB-488F-9DF7-83D42209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 ON causes TEST to keep track of which objects are executed, not how many times they are execu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 COUNT causes TEST to count how many times each object is execu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ou can even put code in your program to invoke TEST whenever you want using the following techn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 TESTPF9  INVOKE TEST BY PRESSING PF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T KEY PF9 = '%&lt;TEST'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PUT 'XXXX'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PUTS DEMO CALLING USR'S TO GET TECH AND SUBCODE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PUT 'ENTER VALUE' #A (A20) (AD=M'_'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 (1) EMPLOYEES-DB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 L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ERROR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PUT 'YOU HAVE ENCOUNTERED A PROBLEM. YOU WILL BE SHOWN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 'FOUR MORE SCREENS. PLEASE RECORD THE INFORMATION AND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 'CONTACT THE HELP DESK.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 RETURN 'USR2026P' /*DISPLAY TECH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 RETURN 'USR2010P' /*DISPLAY SUBCODE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1144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st Sourc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searches stepibs, which is very useful even if you don't use it for anything el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x*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generic only searches the current LOGON libra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bjecttyp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s not sup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6E7F-EF7E-4867-91B9-DBC3CC6BB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3080" y="559764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C8EB-6D3B-4FB3-898A-930621EEC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2304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20DA-2AF0-4F40-A9B0-58539997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704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36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308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0704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136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C703-DA93-42E4-B520-81500B8F2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11EB-E1E5-4167-8149-860F02254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EEFA-F4EA-48E5-8717-5E05AC388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5B1C-96FC-4902-8750-D81967D136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00A2-D6D3-4E1C-8DB8-EB44F3400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020B-7DD3-4B3A-902C-577C9C749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3080" y="533520"/>
            <a:ext cx="777240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2C89-FF18-4A07-824A-0272797F8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74B8-5382-4869-9CB5-C18B8DC52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84A2-DAE7-462D-9919-9F8C1990D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2304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C486-D731-4200-B286-1F542E9AF1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EA92-A46C-40A7-A339-536AF14D0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080" y="559764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6756-F11B-420F-BE15-BA9F355DA7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2304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AF60-725A-409E-B9BC-AFACEFE07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704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1360" y="521928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308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0704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1360" y="5597640"/>
            <a:ext cx="20606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65C8-1DA2-4B62-9C45-46C025CDD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1CA5-832C-4CD1-B29B-0AFB8769D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813C-F0FE-4B96-8FB2-FD125CF5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BE5B-DC64-4768-9EC0-5292F97AF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3080" y="533520"/>
            <a:ext cx="777240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D7C1-E4BE-4964-9E42-84D5C9601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961E-5A6A-41F5-9DBE-2751E695A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23040" y="559764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CE35-F2B8-458C-879A-C7A9359EC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308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23040" y="5219280"/>
            <a:ext cx="312336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3080" y="5597640"/>
            <a:ext cx="640080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821C-ABE1-42CF-BAFA-177CDCA83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253800"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4760" indent="-223920">
              <a:spcBef>
                <a:spcPts val="751"/>
              </a:spcBef>
              <a:buClr>
                <a:srgbClr val="0052ba"/>
              </a:buClr>
              <a:buFont typeface="Wingdings" charset="2"/>
              <a:buChar char="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6756480" indent="-1699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6756480" indent="-1699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6756480" indent="-1699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49560" y="6552720"/>
            <a:ext cx="760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A9CD00C-66E4-40B4-A1F4-5C880F905A9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5530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tural Monitoring &amp; Productivity 200604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18960" y="658260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3, 2006 Software AG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rcRect l="0" t="0" r="0" b="75006"/>
          <a:stretch/>
        </p:blipFill>
        <p:spPr>
          <a:xfrm>
            <a:off x="6477120" y="6095880"/>
            <a:ext cx="25146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8760960" y="6578280"/>
            <a:ext cx="3812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80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5B2-2AA3-40E2-8F21-C920245C6E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7320" y="4630680"/>
            <a:ext cx="270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9dcea"/>
                </a:solidFill>
                <a:latin typeface="Verdana"/>
              </a:rPr>
              <a:t>Optimize              Manage              Ext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75006"/>
          <a:stretch/>
        </p:blipFill>
        <p:spPr>
          <a:xfrm>
            <a:off x="6477120" y="6095880"/>
            <a:ext cx="2514600" cy="4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38160" algn="ctr"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084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475776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4757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4757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ftwareagusa.com/webedreg/mentoring/index.asp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2004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nitoring and Productiv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 Conference 200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mes Ban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 AG, In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718956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 variables used in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know the COMPUTE statement is creating the wrong value and we want to see if the operands have the correct valu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. How do we look at the operands' value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et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reakpo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 the COMPUTE statement. The application will be interrupted before the statement is executed. We can then display the variables as they look just before the COMPUTE is execute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eakpoint flags a statement so that every time it is executed, execution of the module is interrup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362320"/>
            <a:ext cx="8610840" cy="9144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90   INPUT #EMPS-WITH-SAME-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10   COMPUTE #LEAVE-AVAILABLE = LEAVE-DUE - LEAVE-TAKEN </a:t>
            </a:r>
            <a:r>
              <a:rPr b="1" lang="en-US" sz="1600" spc="-1" strike="noStrike">
                <a:solidFill>
                  <a:srgbClr val="0052ba"/>
                </a:solidFill>
                <a:latin typeface="Times New Roman"/>
              </a:rPr>
              <a:t>←gives wrong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30   INPUT (AD=OT'_' IP=OFF SG=ON)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40     'PERSONNEL ID:' 25T PERSONNEL-ID (AD=O) 5X 'ISN:' *I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36E3-15E9-468C-B1D9-B6F4B066C2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82674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se variables before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lvl="1" marL="952560" indent="-380880">
              <a:spcBef>
                <a:spcPts val="601"/>
              </a:spcBef>
              <a:buClr>
                <a:srgbClr val="0052ba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oke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bugger Main Men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(U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&lt;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01"/>
              </a:spcBef>
              <a:buClr>
                <a:srgbClr val="0052ba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rn on TEST mod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05120"/>
            <a:ext cx="8610840" cy="4495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:13:29              ***** NATURAL TEST UTILITIES *****             2006-03-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FF                - Debug Main Menu -                Object DBGM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N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Debug environment maintenance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py maintenance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   Break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Watch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Call statistics maintenance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Statement execution statistics maintenance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   Variable maintenance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   List object source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T    Object name .. _______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Last        Flip                             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029200"/>
            <a:ext cx="609840" cy="60948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C183-FE32-4B81-ABF3-A5D4941A065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82674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se variables before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lvl="1" marL="952560" indent="-380880">
              <a:spcBef>
                <a:spcPts val="601"/>
              </a:spcBef>
              <a:buClr>
                <a:srgbClr val="0052ba"/>
              </a:buClr>
              <a:buSzPct val="80000"/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eakpoint mainten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01"/>
              </a:spcBef>
              <a:buClr>
                <a:srgbClr val="0052ba"/>
              </a:buClr>
              <a:buSzPct val="80000"/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 break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nd enter the name of the module where we want the breakpoint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05120"/>
            <a:ext cx="8610840" cy="3581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:41:05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     - Breakpoint Maintenance -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FF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   Activate  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   Deactivate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Delete    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   Display   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    Modify    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et        breakpoint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Object nam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GMA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number .. ____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648320"/>
            <a:ext cx="609840" cy="60948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648320"/>
            <a:ext cx="1447920" cy="6094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AC6A-713E-49C4-960F-AE0BEE1680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82674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se variables before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 fontScale="85000"/>
          </a:bodyPr>
          <a:p>
            <a:pPr lvl="1" marL="809640" indent="-323640">
              <a:spcBef>
                <a:spcPts val="675"/>
              </a:spcBef>
              <a:buClr>
                <a:srgbClr val="0052ba"/>
              </a:buClr>
              <a:buSzPct val="8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er the statement number of the COMPUTE statement and change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man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 VAR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We are changing the defaul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mmand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 VAR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cause we want to see the variables screen immediately when the interrupt occurs; we could leav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re and go through the menu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 the break point with &lt;PF5&gt;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743200"/>
            <a:ext cx="8610840" cy="3581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:43:52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       - Modify Breakpoint -   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y number ..............   1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state ........... A (A = Active, I = Inactive)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point name ......... DBGMAIN0510_   DBID/FNR ....... 159/21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ject name ............. DBGMAIN_       Library ........ YSAJGB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number ............. 0510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bel ................... ________________________________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kips before execution .. ____0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 number executions ... ____0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s ... DISPLAY VARIABLE____________________________________________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point DBGMAIN0510 set at line 510 of object DBGMAIN.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886200"/>
            <a:ext cx="990720" cy="609480"/>
          </a:xfrm>
          <a:custGeom>
            <a:avLst/>
            <a:gdLst>
              <a:gd name="textAreaLeft" fmla="*/ 226080 w 990720"/>
              <a:gd name="textAreaRight" fmla="*/ 764640 w 99072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5105520"/>
            <a:ext cx="2743200" cy="609480"/>
          </a:xfrm>
          <a:custGeom>
            <a:avLst/>
            <a:gdLst>
              <a:gd name="textAreaLeft" fmla="*/ 626040 w 2743200"/>
              <a:gd name="textAreaRight" fmla="*/ 2117160 w 27432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7136-D4BE-4446-BE9D-AA4C3C5E24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82674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se variables before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 fontScale="83000"/>
          </a:bodyPr>
          <a:p>
            <a:pPr lvl="1" marL="790560" indent="-3160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we don't know the line number, en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bjectna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line and set the breakpoint on that scre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16080">
              <a:spcBef>
                <a:spcPts val="901"/>
              </a:spcBef>
              <a:buClr>
                <a:srgbClr val="0052b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we set the breakpoint here and we want to change the command to DISPLAY VARIABLE, we can go back to the menu and choo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dify     breakpo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828800"/>
            <a:ext cx="8610840" cy="38098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:46:06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       - List Object Source -              Object DBGM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 Line Source                                                    Message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460 *                           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470   STACK TOP DATA CITY       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480   FETCH RETURN 'DBGCITY'    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490   INPUT #EMPS-WITH-SAME-CITY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00 *                           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 0510   COMPUTE #LEAVE-AVAILABLE = LEAVE-DUE - LEAVE-TAKEN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20 *                            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30   INPUT (AD=OT'_' IP=OFF SG=ON)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40     'PERSONNEL ID:' 25T PERSONNEL-ID (AD=O) 5X 'ISN:' *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50     / 'LAST NAME:' 25T NAME (AD=M)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60     / 'FIRST NAME:' 25T FIRST-NAME (AD=M)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70     / 'CITY:' 25T CITY (AD=M)      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80     / 'DEPARTMENT:' 25T DEPT (AD=M)          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590     / 'LEAVE AVAILABLE:' 25T #LEAVE-AVAILABLE          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0600     / 'AVERAGE LEAVE AVAILABLE IN SAME DEPT: ' 5X #AVER !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42900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089D-D4EF-4370-8126-962464FC72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113400"/>
            <a:ext cx="82674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an we see these variables before the COMPUTE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143000"/>
            <a:ext cx="8537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Times New Roman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cute the application. The variables will be displayed at the breakpoin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using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 VAR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mmand instead of BREAK, the variables screen will be immediately displayed when the breakpoint causes an interrupt. This way, you avoid having to navigate through the interrupt wind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971800"/>
            <a:ext cx="8610840" cy="34290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03:49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- Display Variables (Alphanumeric) -       Object DBGM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p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 Le Variable Name                    F       Leng Contents               Ms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2 CITY                             A         20 HEPPEN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2 DEPT                             A          6 COMP25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2 LEAVE-DUE                        N        2.0 0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2 LEAVE-TAKEN                      N        2.0 15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EMPLOYEES-UPD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2 PERSONNEL-ID                     A          8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Step  Exit  Last  Zoom  Flip  -     +     Li Br Alpha Hex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4495680"/>
            <a:ext cx="3200400" cy="1600200"/>
            <a:chOff x="5791320" y="4495680"/>
            <a:chExt cx="3200400" cy="1600200"/>
          </a:xfrm>
        </p:grpSpPr>
        <p:sp>
          <p:nvSpPr>
            <p:cNvPr id="156" name=""/>
            <p:cNvSpPr/>
            <p:nvPr/>
          </p:nvSpPr>
          <p:spPr>
            <a:xfrm>
              <a:off x="5791320" y="4619520"/>
              <a:ext cx="533160" cy="86040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196200 h 860400"/>
                <a:gd name="textAreaBottom" fmla="*/ 66420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080" y="4495680"/>
              <a:ext cx="2438640" cy="1600200"/>
            </a:xfrm>
            <a:prstGeom prst="wedgeEllipseCallout">
              <a:avLst>
                <a:gd name="adj1" fmla="val -62435"/>
                <a:gd name="adj2" fmla="val -8828"/>
              </a:avLst>
            </a:prstGeom>
            <a:noFill/>
            <a:ln w="19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VE-DUE should not be zero!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w we must investigate why it is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 txBox="1"/>
          <p:nvPr/>
        </p:nvSpPr>
        <p:spPr>
          <a:xfrm>
            <a:off x="6858000" y="76320"/>
            <a:ext cx="1523880" cy="70776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eakpo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4620-D392-43DE-BF09-B267E80224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need to test the functionality of our program or applica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. Can the Debugger help us determine how comprehensive our testing i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ure, by using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Execution Statist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eatur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debugger will report 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statements were execu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statements were not execu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many times each statement was execu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E368-B4F9-4AFC-8E43-24BAC6631B9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k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bugger Main Men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(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&lt;T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test mode to "ON.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ement execution statistics mainten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514600"/>
            <a:ext cx="8610840" cy="36576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0:22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FF                - Debug Main Menu -    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FF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Debug environment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py maintenance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   Breakpoint maintenance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Watchpoint maintenance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Call statistics maintenanc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Statement execution statistics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   Variable maintenanc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   List object source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Object name .. 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4956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80C7-F125-4149-BC29-E63D435884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     statement execution statist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er the library that we want monitor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we only want to monitor one object, enter its na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"ON" or "COUNT.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819520"/>
            <a:ext cx="8610840" cy="373356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4:00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- Statement Execution Statistics Maintenance -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FF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et   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Delete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   Display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Print 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Print all         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   Print executed    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Print non-executed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Setting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Library ....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SAJG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ject nam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......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FF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715000"/>
            <a:ext cx="609840" cy="60948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5791320"/>
            <a:ext cx="1904760" cy="91440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8AAC-B073-47E2-9A77-6F40979F4E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out of the Debugger and execute your applica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back to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ement Execution Statistics Mainten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nu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isplay statement execution statistic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819520"/>
            <a:ext cx="8610840" cy="373356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5:25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- Statement Execution Statistics Maintenance -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FF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et   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Delete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   Display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Print   statement execution statistics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Print all         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   Print executed    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Print non-executed statements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Setting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Library ...... ________   YSAJGB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ject name .. *_______   *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........ COUNT      COUNT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715000"/>
            <a:ext cx="609840" cy="60948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F6A7-8407-4195-93D2-8048A6026F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Presentation Note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8537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52b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ess otherwise specified, information in this presentation pertains to Natural 4.1.3 and Adabas 7.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99"/>
              </a:spcBef>
              <a:buClr>
                <a:srgbClr val="0052b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screen-captures are abbreviated in the interest of clarity and concisenes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52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 AG Systems Engineering Services Mentoring Workshops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oftwareagusa.com/webedreg/mentoring/index.asp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 Assembler Programming for Administrators (5 day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erNatural: A Practical Guide Workshop (4 day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ing Adabas Review (3 day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 Security (2 day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 for Unix Internals (3 day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ireX Performance and Tuning (1 day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675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Linux Technician's Primer (1 day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0B53-BFBC-451C-B181-E3C3B6D799CD}" type="slidenum">
              <a:t>2</a:t>
            </a:fld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line command DN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isplay non-executed stat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to see which statements were not execu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286000"/>
            <a:ext cx="8610840" cy="39625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5:49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- List Statement Execution Statistics -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 Object   Library  Type        DBID   FNR Obj.Called Exec Exec   %  Total 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_______ YSAJGB__                           n Times able uted     Exec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BGMAIN  YSAJGB   Program      159    21          1   29   24  82        1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DBGNAME  YSAJGB   Subroutine   159    21         10    3    3 100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DBGDEPT  YSAJGB   Subprogram   159    21         10   10   10 100        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 DBGCITY  YSAJGB   Program      159    21         10    5    5 100    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812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114800"/>
            <a:ext cx="5943600" cy="20574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 Debugging Utility Help --------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DE  - Delete statement execution statistics entry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DS  - Display all          statements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DX  - Display executed     statements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DN  - Display non-executed statements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I   - Display information about cataloged object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PS  - Print all          statements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PX  - Print executed     statements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PN  - Print non-executed statements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.   - Exit                         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32CC-2BE6-4012-8366-A110C88A43E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tements that were not executed are display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828800"/>
            <a:ext cx="8610840" cy="18288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6:48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- Display Non-Executed Statement Lines -     Object DBGM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Source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50     EMP-GET. GET EMPLOYEES-UPD *ISN(EMP-READ.)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60     MOVE BY NAME EMPLOYEES TO EMPLOYEES-UPD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70     UPDATE (EMP-GET.)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80     END TRANSACTION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90     ADD 1 TO #COUNTER-UPDATED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AAAD-34BC-4F04-827A-1A1D5C2FC7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port can also be displayed by entering the appropriate direct command at the Natural command lin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 Or we can invoke TEST from the application and then execute the direct command at most debugger scree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057400"/>
            <a:ext cx="8610840" cy="3049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ST DISPLAY NOEXEC YSAJGB DBGMA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LIB=YSAJ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581280"/>
            <a:ext cx="8610840" cy="4572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NEL ID:           11100102     ISN:         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NAME: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&lt;TES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267080"/>
            <a:ext cx="8610840" cy="16002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:37:35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        - Debug Main Menu -    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r>
              <a:rPr b="1" lang="en-US" sz="1400" spc="-1" strike="noStrike">
                <a:solidFill>
                  <a:srgbClr val="0052ba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Wingdings 3"/>
                <a:ea typeface="Wingdings 3"/>
              </a:rPr>
              <a:t>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LAY NOEXEC YSAJGB DBGMA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Last        Flip                             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029200"/>
            <a:ext cx="5715000" cy="609480"/>
          </a:xfrm>
          <a:custGeom>
            <a:avLst/>
            <a:gdLst>
              <a:gd name="textAreaLeft" fmla="*/ 1304640 w 5715000"/>
              <a:gd name="textAreaRight" fmla="*/ 4410360 w 57150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581280"/>
            <a:ext cx="1904760" cy="60984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905120"/>
            <a:ext cx="5715000" cy="609480"/>
          </a:xfrm>
          <a:custGeom>
            <a:avLst/>
            <a:gdLst>
              <a:gd name="textAreaLeft" fmla="*/ 1304640 w 5715000"/>
              <a:gd name="textAreaRight" fmla="*/ 4410360 w 57150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157E-5BA4-43E9-9062-56D8AEFE5E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How Comprehensive Is Our Testing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s that were executed can be display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0"/>
            <a:ext cx="8610840" cy="39625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:48:51              ***** NATURAL TEST UTILITIES *****             2006-03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N         - Display Executed Statement Lines -       Object DBGM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p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Source                                                              Cou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 DEFINE DATA                                                        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00 SET KEY PF3 = 'LAST' NAMED 'STOP'                                  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10 SET KEY PF5          NAMED 'UPDTE'                                 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20 SET KEY PF10 = '%&lt;TEST' NAMED 'DEBUG'                              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50 INPUT 'ENTER STARTING PERSONNEL-ID' #START-PID                     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70 EMP-READ.                                                              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20   ADD 1 TO #COUNTER-IN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30   RESET LEAVE-DUE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50   PERFORM COUNT-SAME-NAME NAME #EMPS-WITH-SAME-NAME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70   CALLNAT 'DBGDEPT'        DEPT #EMPS-WITH-SAME-DEPT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90   STACK TOP DATA CITY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00   FETCH RETURN 'DBGCITY'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10   INPUT #EMPS-WITH-SAME-CITY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30   COMPUTE #LEAVE-AVAILABLE = LEAVE-DUE - LEAVE-TAKEN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50   INPUT (AD=OT'_' IP=OFF SG=ON)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4724280"/>
            <a:ext cx="1447920" cy="914400"/>
          </a:xfrm>
          <a:prstGeom prst="wedgeRoundRectCallout">
            <a:avLst>
              <a:gd name="adj1" fmla="val 66555"/>
              <a:gd name="adj2" fmla="val -28472"/>
              <a:gd name="adj3" fmla="val 16667"/>
            </a:avLst>
          </a:pr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mber of times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705720" y="76320"/>
            <a:ext cx="1828800" cy="106668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ti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7A93-3508-4E71-B07E-25CDAE6478C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%&lt;TEST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start a database trace while I'm</a:t>
            </a:r>
            <a:br>
              <a:rPr sz="2800"/>
            </a:b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running an application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320" y="10666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buClr>
                <a:srgbClr val="0052b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the applic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52b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any screen enter terminal comm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&lt;T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NEL ID:           11100106     ISN:         206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NAME:              SCHMITT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 NAME:             REINER______________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ITY:                   DARMSTADT___________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PARTMENT:             COMP25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AVE AVAILABLE:           0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VERAGE LEAVE AVAILABLE IN SAME DEPT:         0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WITH SAME LAST NAME:             2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IN SAME CITY:                   30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IN SAME DEPARTMENT:              0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 STOP        UPDTE                         DEBUG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819520" y="2209680"/>
            <a:ext cx="6019560" cy="2514600"/>
            <a:chOff x="2819520" y="2209680"/>
            <a:chExt cx="6019560" cy="2514600"/>
          </a:xfrm>
        </p:grpSpPr>
        <p:sp>
          <p:nvSpPr>
            <p:cNvPr id="208" name=""/>
            <p:cNvSpPr/>
            <p:nvPr/>
          </p:nvSpPr>
          <p:spPr>
            <a:xfrm>
              <a:off x="2819520" y="2209680"/>
              <a:ext cx="1218960" cy="609840"/>
            </a:xfrm>
            <a:custGeom>
              <a:avLst/>
              <a:gdLst>
                <a:gd name="textAreaLeft" fmla="*/ 278280 w 1218960"/>
                <a:gd name="textAreaRight" fmla="*/ 940680 w 121896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11001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%&lt;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EINER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5880" y="2209680"/>
              <a:ext cx="2743200" cy="2514600"/>
            </a:xfrm>
            <a:prstGeom prst="wedgeRoundRectCallout">
              <a:avLst>
                <a:gd name="adj1" fmla="val -126101"/>
                <a:gd name="adj2" fmla="val -37814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buClr>
                  <a:srgbClr val="ff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8000"/>
                  </a:solidFill>
                  <a:latin typeface="Times New Roman"/>
                </a:rPr>
                <a:t>Be sure to "blank out" the rest of the field, otherwise, it will not be interpreted as a terminal comma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buClr>
                  <a:srgbClr val="ff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8000"/>
                  </a:solidFill>
                  <a:latin typeface="Times New Roman"/>
                </a:rPr>
                <a:t>Can enter the command across two fields if you don't don't have a six-byte fiel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98D1-7100-415D-AA39-592F137DD0FD}" type="slidenum">
              <a:t>25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start a database trace while I'm</a:t>
            </a:r>
            <a:br>
              <a:rPr sz="2800"/>
            </a:b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running an application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320" y="10666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buClr>
                <a:srgbClr val="0052b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the logging of DB calls using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LO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mman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:37:26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FF                - Debug Main Menu -    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N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Debug environment maintenance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py maintenance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   Break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Watch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Call statistics maintenance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Statement execution statistics maintenance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   Variable maintenance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   List object source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_    Object name .. _______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Last        Flip                             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12720" y="5614920"/>
            <a:ext cx="1600200" cy="609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LOG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E26E-8DEF-4F3E-93EC-49A4C8310571}" type="slidenum">
              <a:t>26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start a database trace while I'm</a:t>
            </a:r>
            <a:br>
              <a:rPr sz="2800"/>
            </a:b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running an application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0666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buClr>
                <a:srgbClr val="0052b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to your application (use &lt;ENTER&gt; and &lt;PF3&gt;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52b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n your application until you want to see the DB trac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52b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any screen enter terminal comm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&lt;T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NEL ID:           11100107     ISN:         207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NAME:              SCHMI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 NAME:             HELGA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ITY:                   HEPPENHEIM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PARTMENT:             MGMT21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AVE AVAILABLE:         -20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VERAGE LEAVE AVAILABLE IN SAME DEPT:         7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WITH SAME LAST NAME:             5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IN SAME CITY:                    7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THER EMPLOYEES IN SAME DEPARTMENT:              9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 STOP        UPDTE                         DEBUG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73440" y="2220840"/>
            <a:ext cx="1218960" cy="60984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&lt;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FE9-F932-4043-B36F-4E2BBA3094B2}" type="slidenum">
              <a:t>27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start a database trace while I'm</a:t>
            </a:r>
            <a:br>
              <a:rPr sz="2800"/>
            </a:b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running an application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0666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buClr>
                <a:srgbClr val="0052ba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play the DB trace using command DBLOG SH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:43:22              ***** NATURAL TEST UTILITIES *****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 Mode OFF                - Debug Main Menu -                Object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   Set test mode ON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Debug environment maintenance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Spy maintenance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   Break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Watchpoint maintenance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Call statistics maintenance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Statement execution statistics maintenance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   Variable maintenance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   List object source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.. _    Object name .. ________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Last        Flip                             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638680"/>
            <a:ext cx="2057400" cy="60984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LOG 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17D5-C23D-41B4-A7BB-B3E71DAB8C3A}" type="slidenum">
              <a:t>28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start a database trace while I'm</a:t>
            </a:r>
            <a:br>
              <a:rPr sz="2800"/>
            </a:b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running an application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0666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80880" indent="-380880">
              <a:buClr>
                <a:srgbClr val="0052ba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the trace as usual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:43:56             ***** NATURAL TEST UTILITIES *****              2006-0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    - DBLOG Trace -                  Library YSAJGB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   No Cmd   DB   FNR  Rsp        ISN        ISQ  CID CID(Hex) OP Pgm     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1 L3   159    11             207            ???? 03800101  A DBGMAIN  03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2 S1   159    11             207          5      00000000    DBGNAME  00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3 S1   159    11             207          9 ???? 01700201   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4 L1   159    11             211            ???? 01700201 M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5 L1   159    11             223            ???? 01700201 &lt;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6 L1   159    11             227            ???? 01700201 &lt;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7 L1   159    11             234            ???? 01700201 M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8 L1   159    11             235            ???? 01700201 &lt;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9 L1   159    11             236            ???? 01700201 &lt;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10 L1   159    11             241            ???? 01700201 M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11 L1   159    11            1102            ???? 01700201 &lt;N DBGDEPT  0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12 S1   159    11             204          7      00000000    DBGCITY  00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Print Exit  Top   Posi  Bot    -     +                    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581280"/>
            <a:ext cx="6019920" cy="236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even put code in your program to invoke TEST whenever you want using the following tech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TESTPF9  INVOKE TEST BY PRESSING PF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KEY PF9 = '%&lt;TEST'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'XXXX'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20F7-B76D-4243-8A5A-264A5D063BF5}" type="slidenum">
              <a:t>29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TECH, %&lt;TECH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, Unix/Linux, Windows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TEST DBLOG in Batch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ON SAJG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DBLOG 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 READEMP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DBLOG SHO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967A-D2C0-4FFE-B254-86F518EB52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0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in Batc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2438280"/>
            <a:ext cx="9067680" cy="25909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5:00:20                                        ***** NATURAL TEST UTILITIES *****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/10/03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SAJGB31D                                               DBLOG  Trace                                          Library SAJGB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. Cmd  DBID Rsp         ISN        ISQ CID       Op1 FBL  SBL  IBL  Additions 1      Additions 3      Global Format ID  Progra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NR             ISL   Reserved CID(Hex)  Op2 RBL  VBL       Additions 2      Additions 4      Time     User     Line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RC   213 0000          0          0            F  0000 0000 0000 0000000000000000 0000000000000000 0000000000000000  ATES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      0          N 00000000      0000 0000      00000003         0000000000000000 00000000 00000000 655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L3   213 0000        477          0  ???          0024 0008 0000 C1C5BBCA40404040 0000000000000000 F8BA2D70A690F929  READEM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               0          N 00100101   V  0042 0014      009D0042         0000000000000000 00000039 00000000 001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L3   213 0000        882          0  ???          0024 0008 0000 C1C5BBCB40404040 0000000000000000 F8BA2D70A690F929  READEM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               0          N 00100101   V  0042 0014      00CF0042         0000000000000000 00000009 00000000 001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L3   213 0000        549          0  ???          0024 0008 0000 C1C5BBCB40404040 0000000000000000 F8BA2D70A690F929  READEM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               0          N 00100101   V  0042 0014      00E70042         0000000000000000 00000005 00000000 001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8410-F4E8-4E93-B4DE-C868FF20B1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Snap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Snap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ON SAJG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DBLOG 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L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 READEMP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K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K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B9C0-B0DC-4306-8954-3B76D4518B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Snap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 READEM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:21:44             ***** NATURAL TEST UTILITIES *****              2003-10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Snapshot Report -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Code : L3           Command ID   :  ??? 00100101 File Number  : 0029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Code:      0       ISN          :           477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Low Limit: 00000000     ISN Quantity :             0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 Length    : 0048         RB Length    : 0118          SB Length    : 000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B Length    : 0014         IB Length    : 0000          Com. Option 1: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. Option 2: V            Additions 1  : AE            Additions 2  :   ??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s 3  :              Additions 4  :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al FID   : F8BA2D756E8E3429 Command Time : 00000002 Pgm: READEMPL Lin: 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 Block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 * 00D5D3F3 00100101 00290000 000001DD *  NL3 ??? ?    ?  * 000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 * 00000000 00000000 00480118 00080014 *           ?? ? ? * 001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20 * 000000E5 C1C5BBCA 40404040 009D0118 *    VAE        ?? * 002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30 * 00000000 00000000 00000000 00000000 *                  * 003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40 * F8BA2D75 6E8E3429 00000002 00000000 * 8 ? &gt; ??   ?     * 004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50 * 00000000 00000000 00000000 00000000 *                  * 005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60 * 00000000 00000000 00000000 00000000 *                  * 006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70 * 00000000 00000000 00000000 00000000 *                  * 007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CB    FB    RB     -     +    SB    VB    IB    Ca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4880" y="739800"/>
            <a:ext cx="4173480" cy="1222200"/>
          </a:xfrm>
          <a:custGeom>
            <a:avLst/>
            <a:gdLst>
              <a:gd name="textAreaLeft" fmla="*/ 952560 w 4173480"/>
              <a:gd name="textAreaRight" fmla="*/ 3220920 w 4173480"/>
              <a:gd name="textAreaTop" fmla="*/ 279000 h 1222200"/>
              <a:gd name="textAreaBottom" fmla="*/ 94320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,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CUTE READE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12D7-0F6E-48F6-89E6-3C7C839C07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Snap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A 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:21:44             ***** NATURAL TEST UTILITIES *****              2003-10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Snapshot Report -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Code : L3           Command ID   :  ??? 00100101 File Number  : 0029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Code:      0       ISN          :           477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Low Limit: 00000000     ISN Quantity :             0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 Length    : 0048         RB Length    : 0118          SB Length    : 000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B Length    : 0014         IB Length    : 0000          Com. Option 1: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. Option 2: V            Additions 1  : AE            Additions 2  :   ??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s 3  :              Additions 4  :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al FID   : F8BA2D756E8E3429 Command Time : 00000002 Pgm: READEMPL Lin: 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Buffer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 * C1C56BF0 F2F06BC1 6BC1C36B F0F2F06B * AE,020,A,AC,020, * 000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 * C16BC1C8 6BF0F0F6 6BE46BC1 D16BF0F2 * A,AH,006,U,AJ,02 * 001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20 * F06BC16B C1C9F0F0 F0F160F0 F0F1F06B * 0,A,AI0001-0010, * 002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30 * F0F2F06B C16BC1D6 6BF0F0F6 6BC16BC1 * 020,A,AO,006,A,A * 003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40 * C16BF0F0 F86BC14B 00000000 00000000 * A,008,A.         * 004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50 * 00000000 00000000 00000000 00000000 *                  * 005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60 * 00000000 00000000 00000000 00000000 *                  * 006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70 * 00000000 00000000 00000000 00000000 *                  * 007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FB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CB    FB    RB     -     +    SB    VB    IB    Ca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4880" y="739800"/>
            <a:ext cx="4173480" cy="1222200"/>
          </a:xfrm>
          <a:custGeom>
            <a:avLst/>
            <a:gdLst>
              <a:gd name="textAreaLeft" fmla="*/ 952560 w 4173480"/>
              <a:gd name="textAreaRight" fmla="*/ 3220920 w 4173480"/>
              <a:gd name="textAreaTop" fmla="*/ 279000 h 1222200"/>
              <a:gd name="textAreaBottom" fmla="*/ 94320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94B0-AD69-4D34-BB69-9A6E47CBB4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Snap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A 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:21:44             ***** NATURAL TEST UTILITIES *****              2003-10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Snapshot Report -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Code : L3           Command ID   :  ??? 00100101 File Number  : 0029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Code:      0       ISN          :           477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Low Limit: 00000000     ISN Quantity :             0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 Length    : 0048         RB Length    : 0118          SB Length    : 000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B Length    : 0014         IB Length    : 0000          Com. Option 1: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. Option 2: V            Additions 1  : AE            Additions 2  :   ??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s 3  :              Additions 4  :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al FID   : F8BA2D756E8E3429 Command Time : 00000002 Pgm: READEMPL Lin: 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Buffer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 * C1C2C5D3 D3C1D540 40404040 40404040 * ABELLAN          * 000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 * 40404040 D2C5D7C1 40404040 40404040 *     KEPA         * 001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20 * 40404040 40404040 F7F1F3F4 F5F6D4C1 *         713456MA * 002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30 * C4D9C9C4 40404040 40404040 40404040 * DRID             * 003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40 * 4040C3C1 E2E3C5D3 C1D540F2 F360C340 *   CASTELAN 23-C  * 004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50 * 40404040 40404040 40404040 40404040 *                  * 005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60 * 40404040 40404040 40404040 40404040 *                  * 006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70 * 40404040 40404040 40404040 40404040 *                  * 007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RB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CB    FB    RB     -     +    SB    VB    IB    Ca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14880" y="739800"/>
            <a:ext cx="4173480" cy="1222200"/>
          </a:xfrm>
          <a:custGeom>
            <a:avLst/>
            <a:gdLst>
              <a:gd name="textAreaLeft" fmla="*/ 952560 w 4173480"/>
              <a:gd name="textAreaRight" fmla="*/ 3220920 w 4173480"/>
              <a:gd name="textAreaTop" fmla="*/ 279000 h 1222200"/>
              <a:gd name="textAreaBottom" fmla="*/ 94320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B41-9638-4763-A34E-2CDA3F973C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Can I use TEST DBLOG in Batch?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675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BLOG Snap in B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CF* %K8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:21:44             ***** NATURAL TEST UTILITIES *****              2003-10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Snapshot Report -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Code : L3           Command ID   :  ??? 00100101 File Number  : 0029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Code:      0       ISN          :           477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Low Limit: 00000000     ISN Quantity :             0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 Length    : 0048         RB Length    : 0118          SB Length    : 000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B Length    : 0014         IB Length    : 0000          Com. Option 1: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. Option 2: V            Additions 1  : AE            Additions 2  :   ??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s 3  :              Additions 4  :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al FID   : F8BA2D756E8E3429 Command Time : 00000002 Pgm: READEMPL Lin: 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Buffer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80 * 40404040 40404040 40404040 40404040 *                  * 008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90 * 40404040 40404040 40404040 40404040 *                  * 009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A0 * 40404040 40404040 40404040 40404040 *                  * 00A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B0 * 40404040 40404040 40404040 40404040 *                  * 00B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C0 * 40404040 40404040 40404040 40404040 *                  * 00C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D0 * 40404040 40404040 40404040 40404040 *                  * 00D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E0 * 40404040 40404040 40404040 40404040 *                  * 00E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F0 * 40404040 40404040 40404040 40404040 *                  * 00F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RB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      Exit  CB    FB    RB     -     +    SB    VB    IB    Ca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4880" y="739800"/>
            <a:ext cx="4173480" cy="1222200"/>
          </a:xfrm>
          <a:custGeom>
            <a:avLst/>
            <a:gdLst>
              <a:gd name="textAreaLeft" fmla="*/ 952560 w 4173480"/>
              <a:gd name="textAreaRight" fmla="*/ 3220920 w 4173480"/>
              <a:gd name="textAreaTop" fmla="*/ 279000 h 1222200"/>
              <a:gd name="textAreaBottom" fmla="*/ 94320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K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4530-EACF-45B5-B710-AE9309738C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SYSFILE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, Unix/Linux, Windows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Mainframe SYSFILE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FILE WORKFI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676520"/>
            <a:ext cx="8610840" cy="20574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:48:13             ***** NATURAL SYSFILE UTILITY *****            2003-10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Work File Information -             TID 1      3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 No.   Type      Name   Recfm  Lrecl  Blksz  Status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PC                  VB            4628  Available for Input/Output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COMPLETE  CMWKF02   VB            4628  Available for Input/Output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 PC                  VB            4628  Available for Input/Output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COMPLETE  CMWKF04   VB            4628  Available for Input/Output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  COMPLETE  CMWKF05   VB            4628  Available for Input/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3886200"/>
            <a:ext cx="8763120" cy="2590920"/>
            <a:chOff x="380880" y="3886200"/>
            <a:chExt cx="8763120" cy="2590920"/>
          </a:xfrm>
        </p:grpSpPr>
        <p:sp>
          <p:nvSpPr>
            <p:cNvPr id="257" name=""/>
            <p:cNvSpPr/>
            <p:nvPr/>
          </p:nvSpPr>
          <p:spPr>
            <a:xfrm>
              <a:off x="380880" y="3886200"/>
              <a:ext cx="876312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360" bIns="90360" anchor="t">
              <a:normAutofit/>
            </a:bodyPr>
            <a:p>
              <a:pPr marL="407880" indent="-407880">
                <a:lnSpc>
                  <a:spcPct val="90000"/>
                </a:lnSpc>
                <a:spcBef>
                  <a:spcPts val="751"/>
                </a:spcBef>
                <a:buClr>
                  <a:srgbClr val="0052ba"/>
                </a:buClr>
                <a:buFont typeface="Wingdings" charset="2"/>
                <a:buChar char=""/>
                <a:tabLst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FILE PR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4419720"/>
              <a:ext cx="8610840" cy="2057400"/>
            </a:xfrm>
            <a:prstGeom prst="roundRect">
              <a:avLst>
                <a:gd name="adj" fmla="val 2324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5:49:15             ***** NATURAL SYSFILE UTILITY *****            2003-10-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ser SAJGB               - Print File Information -             TID 1      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 No.   Type      Name   Recfm  Lrecl  Blksz  Status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-----------------------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C  COMPLETE                                Available for Output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  COMPLETE  LUNAME1   VBA            240  Available for Output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  PC        LUNAME2   VBA            240  Available for Output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  COMPLETE  LUNAME3   VBA            240  Available for Output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  PC        LUNAME4   VBA            240  Available for Output 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5355-9B41-4FA6-954D-8E0FD7C0D9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TECH, %&lt;TECH Helproutine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-G90P0           ***** Software Distribution System *****           ID-G90M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/25/2003                   - Shipment Request -                     2 more 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quest ID: 34273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quest Date: 02/25/2003 12:14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quest Status: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quest Type: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questor Name: Bando, James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one: 703-3916621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Responsibility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ter: 503505____ -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our Comments: _______________________________________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: This is screen one of three.  Use the Left (PF10) and Right (PF11) key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 navigate the three screens.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m Help  Main  Retrn       Flip  Pref  Bkwrd Frwrd       Left  Right Quit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657600"/>
            <a:ext cx="137160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&lt;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505320"/>
            <a:ext cx="1295640" cy="5331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209680"/>
            <a:ext cx="4267080" cy="1219320"/>
          </a:xfrm>
          <a:prstGeom prst="wedgeRoundRectCallout">
            <a:avLst>
              <a:gd name="adj1" fmla="val -78870"/>
              <a:gd name="adj2" fmla="val 77472"/>
              <a:gd name="adj3" fmla="val 16667"/>
            </a:avLst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buClr>
                <a:srgbClr val="0052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Be sure to "blank out" the rest of the field, otherwise, it will not be interpreted as a terminal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52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Can enter the command across two fields if you don't have a six-byte fie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BAA3-6806-44DF-BD7E-012EA08CA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nix/Linux SYSFILE WORKFILE*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FILE WORKFI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610840" cy="4495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:32:23                    NATURAL SYSFILE UTILITY                2005-07-1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Work and Print File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Information about Work Files-----+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  No. Work File Name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                    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1  $WRKF01                     ¦ces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2  $HOME/cmwrkf02.wrk          ¦ices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3  $HOME/cmwrkf03.wrk          ¦iles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4  $HOME/cmwrkf04.wrk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5  $HOME/cmwrkf05.wrk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6  $HOME/cmwrkf06.wrk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7  $HOME/cmwrkf07.wrk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8  workfile      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 9  /home/sajgb/work9.wrk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10                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11                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¦    _ 12                              ¦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-------+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Exit        Rep    --    -     +     ++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1722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SYSFILE WORKFILE on Windows is simi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CE1C-3A64-45F7-A279-E6CA732C27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nix/Linux SYSFILE PRINTER*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FILE 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76520"/>
            <a:ext cx="8610840" cy="4495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23:40                    NATURAL SYSFILE UTILITY                2005-08-03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Work and Print File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Information about Physical Devices--+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Physical Device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VIDEO                           |ces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$HOME/cmprt01.rpt               |ices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$HOME/cmprt02.rpt               |iles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$HOME/cmprt03.rpt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$HOME/cmprt04.rpt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lp -prsispr06_l -oc -onb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lp -prsispr06_l -ocondensedi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lp -prsispr06_l -olandscape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LPT1           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SOURCE         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DUMMY          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INFOLINE                        |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-------+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       Rep    --    -     +     ++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0844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Times New Roman"/>
              </a:rPr>
              <a:t>LPT1</a:t>
            </a: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69396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Times New Roman"/>
              </a:rPr>
              <a:t>LPT4</a:t>
            </a: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42670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noFill/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Times New Roman"/>
              </a:rPr>
              <a:t>LPT7</a:t>
            </a: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61722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SYSFILE PRINTER on Windows is simi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3008-0215-46A7-A224-ACE9CAC15E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112320"/>
            <a:ext cx="8267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nix/Linux/Windows Get/Set/Reset Printer Specificatio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143000"/>
            <a:ext cx="8763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R1069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 printer destination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printer destination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lnSpc>
                <a:spcPct val="90000"/>
              </a:lnSpc>
              <a:spcBef>
                <a:spcPts val="751"/>
              </a:spcBef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et printer destination to the Natural parameter file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505320"/>
            <a:ext cx="8610840" cy="28954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or set a printer configuration: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 ............ G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ical printer ID .. 1__  LPT1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ysical printer .... $HOME/cmprt01.rpt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 size ........... 66__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size ........... 80__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pages .......... 32767_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 method ........ TTY_____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target ....... 2_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............ 0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4648320"/>
            <a:ext cx="2819520" cy="457200"/>
          </a:xfrm>
          <a:prstGeom prst="leftArrow">
            <a:avLst>
              <a:gd name="adj1" fmla="val 50000"/>
              <a:gd name="adj2" fmla="val 154173"/>
            </a:avLst>
          </a:prstGeom>
          <a:solidFill>
            <a:srgbClr val="ffffcc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File or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5334120"/>
            <a:ext cx="2819160" cy="990360"/>
          </a:xfrm>
          <a:prstGeom prst="leftArrow">
            <a:avLst>
              <a:gd name="adj1" fmla="val 50000"/>
              <a:gd name="adj2" fmla="val 71165"/>
            </a:avLst>
          </a:prstGeom>
          <a:solidFill>
            <a:srgbClr val="ffffcc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"1" means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"2" mean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038480"/>
            <a:ext cx="2819520" cy="457200"/>
          </a:xfrm>
          <a:prstGeom prst="leftArrow">
            <a:avLst>
              <a:gd name="adj1" fmla="val 50000"/>
              <a:gd name="adj2" fmla="val 154173"/>
            </a:avLst>
          </a:prstGeom>
          <a:solidFill>
            <a:srgbClr val="ffffcc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Get, Set, or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872E-12EE-41B1-9BBF-680EE76C65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SYSADA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SYSADA Utility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A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" y="1900080"/>
            <a:ext cx="8044200" cy="4662720"/>
          </a:xfrm>
          <a:prstGeom prst="roundRect">
            <a:avLst>
              <a:gd name="adj" fmla="val 9023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st call has been succesfully executed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:33:50             ***** NATURAL ADACALL UTILITY *****             2003-06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7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d S1        Cmd ID               File 41              Database 213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p 0            ISN 525            ISQ 19                   ISL 0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BL 210          RBL 980            SBL 140     VBL 140      IBL 80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6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2  40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mat  AC,AE.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ord  GERHARD             SMITH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arch  AE,.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 SMITH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N  525         585         633         646         680         728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4CCF-F193-4D20-B47F-8DEA9537F2E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SYSADA to read data. Start by verifying what the data looks like in EBCDI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0:03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1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L1        Cmd ID               File 11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478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15           RBL 28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0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AA,8,A,AE,20,A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276720"/>
            <a:ext cx="457200" cy="3045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3276720"/>
            <a:ext cx="457200" cy="3045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114800"/>
            <a:ext cx="2209680" cy="38088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78D3-749D-44DF-91D4-2CB74A427C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2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 the EBCDIC dat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call has been succesfully executed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0:38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2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L1        Cmd ID               File 11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478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15           RBL 28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4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9  28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AA,8,A,AE,20,A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60008339ABELLAN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4495680"/>
            <a:ext cx="2209680" cy="38124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3B89-4A26-499D-B8B2-0B626037F3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3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 the current Adabas user ses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1:03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2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CL        Cmd ID               File 0 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0  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0            RBL 0 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4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9  28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0EB3-19F6-4FDC-8459-5EB384B3E7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4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a new Adabas session with architecture of zero (i.e., big-endian, ASCII, IBM-370 floating point). ARC= explained in Adabas Commands manu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call has been succesfully executed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3:44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OP        Cmd ID               File 0 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0  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0            RBL 6 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29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ARC=0.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4495680"/>
            <a:ext cx="1219320" cy="38124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3276720"/>
            <a:ext cx="457200" cy="3045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2D2E-9C75-4D5E-B7D4-08C1A48A29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5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SYSADA to read dat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call has been succesfully executed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4:54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6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L1        Cmd ID               File 11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478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15           RBL 28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1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0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AA,8,A,AE,20,A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2895480"/>
            <a:ext cx="457200" cy="3049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276720"/>
            <a:ext cx="457200" cy="3045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3276720"/>
            <a:ext cx="457200" cy="30456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114800"/>
            <a:ext cx="2209680" cy="38088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0463-BDB3-482A-ADB0-B44D9512748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TECH, %&lt;TECH Helproutine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-G90P0           ***** Software Distribution System *****           ID-G90M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/ +------------------------- TECH --------------------------+       2 more 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12:25:02                                     02/25/2003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User ................. SAJGB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Library .............. SDSYS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Version / SM Level ... 3.1 / 0005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Startup Transaction .. SD-START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R ! NATURAL SECURITY ..... Yes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Operating System ..... MVS/ESA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Oper. Sys. Version ... SP6.0.9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Machine Class ........ MAINFRAME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Hardware ............. 2066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TP Monitor ........... COMPLETE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Device Type .......... VIDEO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Terminal ID .......... 1     20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! Last Command ......... SD-START                         ! t (PF11) key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+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m Help  Main  Retrn       Flip  Pref  Bkwrd Frwrd       Left  Right Q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C51D-4BF0-4577-B7EB-7C19BF37C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6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 the ASCII data. ASCII data displayed on EBCDIC terminal looks a little strang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call has been succesfully executed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6:09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Char                                                    Call No. 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L1        Cmd ID               File 11              Database 15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            ISN 478            ISQ 0                    IS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15           RBL 28             SBL 0       VBL 0        IBL 0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            COP2          User Area                 Cmd Time 3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9  28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AA,8,A,AE,20,A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????????[]?&lt;&lt;[+?????????????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N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xit              Char  He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4495680"/>
            <a:ext cx="3886200" cy="38124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5327-FC57-4A01-83EA-42D63485E97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Use SYSADA to Check for ASCII Data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Times New Roman"/>
              <a:buAutoNum type="arabicPeriod" startAt="6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 &lt;PF7&gt; to see the data in hex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981080"/>
            <a:ext cx="8610840" cy="4419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:46:22             ***** NATURAL ADACALL UTILITY *****             2006-0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r SAJGB                 - Adabas Direct Calls -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e Hex                                                      Call No. 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Control Block ***         First Byte 00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 L1        Cmd ID 00000000      File 000B            Database 009F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 0000         ISN 000001DE       ISQ 00000000             ISL 00000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BL 000F         RBL 001C           SBL 0000     VBL 0000    IBL 0000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1 40          COP2 40       User Area 40404040        Cmd Time 3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1        Addition2  Addition3        Addition4        Addition5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40404040404040 009F001C   4040404040404040 4040404040404040 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 Buffer Areas ***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 C1C16BF86BC16BC1C56BF2F06BC14B404040404040404040404040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4040404040404040404040404040404040404040404040404040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ord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630303038333339</a:t>
            </a:r>
            <a:r>
              <a:rPr b="1" lang="en-US" sz="1400" spc="-1" strike="noStrike">
                <a:solidFill>
                  <a:srgbClr val="9c4e00"/>
                </a:solidFill>
                <a:latin typeface="Courier New"/>
              </a:rPr>
              <a:t>4142454C4C414E202020202020202020202020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        4040404       4040404040404040404040404040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  40404   40404040             0404040404040404040404040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  4040404040404040404040404040404040404040404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                        00   000000000000000000000000000000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 000000000000000000000000000000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0000  00000000  00000000  00000000  00000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and ===&gt;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                         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  Main  E                         x   View  Prnt  Run   Init  Ca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572000"/>
            <a:ext cx="2514600" cy="1066680"/>
          </a:xfrm>
          <a:prstGeom prst="upArrowCallout">
            <a:avLst>
              <a:gd name="adj1" fmla="val 27986"/>
              <a:gd name="adj2" fmla="val 58935"/>
              <a:gd name="adj3" fmla="val 17856"/>
              <a:gd name="adj4" fmla="val 66660"/>
            </a:avLst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ASCII x'363030303833333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600083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4572000"/>
            <a:ext cx="2514600" cy="1828800"/>
          </a:xfrm>
          <a:prstGeom prst="upArrowCallout">
            <a:avLst>
              <a:gd name="adj1" fmla="val 13548"/>
              <a:gd name="adj2" fmla="val 34375"/>
              <a:gd name="adj3" fmla="val 16667"/>
              <a:gd name="adj4" fmla="val 119448"/>
            </a:avLst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ASCII x'4142454C4C414E2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ABEL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D32A-7C6F-42F2-B324-50ABDB7152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%X, %XS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%X Terminal Command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52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 a statistics line</a:t>
            </a: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XT                                                     LIB=SAJG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O=127,AIO=610,L=0,C=0,LS=80,PS=7,PLS=80,PCS=24,FLD=38,CLS=1,ADA=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SONNE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00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3390840"/>
            <a:ext cx="1295640" cy="838440"/>
          </a:xfrm>
          <a:prstGeom prst="wedgeRectCallout">
            <a:avLst>
              <a:gd name="adj1" fmla="val -42157"/>
              <a:gd name="adj2" fmla="val -113634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Number of ADABAS calls for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3581280"/>
            <a:ext cx="1295280" cy="838440"/>
          </a:xfrm>
          <a:prstGeom prst="wedgeRectCallout">
            <a:avLst>
              <a:gd name="adj1" fmla="val 17648"/>
              <a:gd name="adj2" fmla="val -130300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Number FETCHs, CALLNAT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809880"/>
            <a:ext cx="1295280" cy="838440"/>
          </a:xfrm>
          <a:prstGeom prst="wedgeRectCallout">
            <a:avLst>
              <a:gd name="adj1" fmla="val 76472"/>
              <a:gd name="adj2" fmla="val -157574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Number of fields on 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4378320"/>
            <a:ext cx="87631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t">
            <a:normAutofit/>
          </a:bodyPr>
          <a:p>
            <a:pPr marL="407880" indent="-407880">
              <a:lnSpc>
                <a:spcPct val="90000"/>
              </a:lnSpc>
              <a:spcBef>
                <a:spcPts val="52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X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XT subpg 139                                               LIB=SAJG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O=126,AIO=113,L=0,C=0,LS=80,PS=0,PLS=80,PCS=24,FLD=27,CLS=0,ADA=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XT                                                         LIB=SAJG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O=122,AIO=111,L=0,C=0,LS=80,PS=0,PLS=80,PCS=24,FLD=27,CLS=140,ADA=55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056C-BEBC-48D6-82E9-888080EBA34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%XS Terminal Command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52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X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 internal response time</a:t>
            </a: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XT                                                     LIB=SAJG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N=0.000032,MAX=2.111968,AVR=0.034876,LST=0.00004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SONNE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00107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XT                                                     LIB=SAJG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N=0.000032,MAX=2.111968,AVR=0.034944,LST=0.00150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957400"/>
            <a:ext cx="1482840" cy="943200"/>
          </a:xfrm>
          <a:prstGeom prst="wedgeRectCallout">
            <a:avLst>
              <a:gd name="adj1" fmla="val 31050"/>
              <a:gd name="adj2" fmla="val 105893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2ba"/>
                </a:solidFill>
                <a:latin typeface="Times New Roman"/>
              </a:rPr>
              <a:t>Response time of previous screen, not this on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828440" y="2666880"/>
            <a:ext cx="3505320" cy="1752840"/>
            <a:chOff x="1828440" y="2666880"/>
            <a:chExt cx="3505320" cy="1752840"/>
          </a:xfrm>
        </p:grpSpPr>
        <p:sp>
          <p:nvSpPr>
            <p:cNvPr id="335" name=""/>
            <p:cNvSpPr/>
            <p:nvPr/>
          </p:nvSpPr>
          <p:spPr>
            <a:xfrm flipH="1" flipV="1">
              <a:off x="1828440" y="3352680"/>
              <a:ext cx="3505320" cy="1067040"/>
            </a:xfrm>
            <a:prstGeom prst="line">
              <a:avLst/>
            </a:prstGeom>
            <a:ln w="25560">
              <a:solidFill>
                <a:srgbClr val="0052b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57400" y="2666880"/>
              <a:ext cx="2286000" cy="838440"/>
            </a:xfrm>
            <a:prstGeom prst="rect">
              <a:avLst/>
            </a:prstGeom>
            <a:noFill/>
            <a:ln w="25560">
              <a:solidFill>
                <a:srgbClr val="0052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2ba"/>
                  </a:solidFill>
                  <a:latin typeface="Times New Roman"/>
                </a:rPr>
                <a:t>It took Natural .001504 second to read and display this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8742-7C26-4DA4-9653-5810440F803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STRUCT Command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4360" y="1344600"/>
            <a:ext cx="769608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9:58:00                    *****  NATURAL  *****                    2001-06-2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 SAJGB                      - Main Menu -                Library SAJGB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Development Functions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Development Environment Settings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Maintenance and Transfer Utilities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Debugging and Monitoring Utilities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Example Libraries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Other Products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Help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_  Exit NATURAL Session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and ===&gt; </a:t>
            </a:r>
            <a:r>
              <a:rPr b="1" lang="en-US" sz="1200" spc="-1" strike="noStrike">
                <a:solidFill>
                  <a:srgbClr val="fd1127"/>
                </a:solidFill>
                <a:latin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        Exit                                                  Can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4191120"/>
            <a:ext cx="1981080" cy="1218960"/>
          </a:xfrm>
          <a:prstGeom prst="wedgeRectCallout">
            <a:avLst>
              <a:gd name="adj1" fmla="val -148796"/>
              <a:gd name="adj2" fmla="val 94273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STRUCT command is very different from the STRUCT edit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Try it -- you'll like it!`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STRUCT Command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176E-328A-46AA-8F22-D2B1EDA6AFC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1346040"/>
            <a:ext cx="769608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:01:35              ***** NATURAL STRUCT COMMAND *****             2001-06-2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 SAJGB                         - Menu -                    Library SAJGB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de  Function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   Generate structured source into work area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   Display structure of source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    Print structure of source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   Write structure of source into work area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?    Help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Exit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de ................ </a:t>
            </a:r>
            <a:r>
              <a:rPr b="1" lang="en-US" sz="1200" spc="-1" strike="noStrike">
                <a:solidFill>
                  <a:srgbClr val="fd1127"/>
                </a:solidFill>
                <a:latin typeface="Courier New"/>
              </a:rPr>
              <a:t>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 name ......... </a:t>
            </a:r>
            <a:r>
              <a:rPr b="1" lang="en-US" sz="1200" spc="-1" strike="noStrike">
                <a:solidFill>
                  <a:srgbClr val="fd1127"/>
                </a:solidFill>
                <a:latin typeface="Courier New"/>
              </a:rPr>
              <a:t>tmigtr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f blank, current source STRUCT1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 compressed .. N (Y/N)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ift value ......... 2 (1 - 9)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ign comments ...... Y (Y/N/L)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 messages .... Y (Y/N)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to STRUCT .... N (Y/N)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and ==&gt;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        Exit                                                  Can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3276720"/>
            <a:ext cx="2590920" cy="685800"/>
          </a:xfrm>
          <a:prstGeom prst="wedgeRectCallout">
            <a:avLst>
              <a:gd name="adj1" fmla="val -89703"/>
              <a:gd name="adj2" fmla="val 44212"/>
            </a:avLst>
          </a:prstGeom>
          <a:solidFill>
            <a:srgbClr val="ffffff"/>
          </a:solidFill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"w"rite the structure of the program STRUCT1 into the editor work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STRUCT Command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F973-B0A8-4B2B-86FA-644E2A0C358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677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76320"/>
            <a:ext cx="8610840" cy="6781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                                      &gt; +  Text                 Lib SAGFTS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p    ....+....1....+....2....+....3....+....4....+....5....+.Mod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A=AT-BREAK    G=CALL-LOOP   M=AT-END-FILE   S=DEFINE-SUBR  -+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B=READ        H=HISTOGRAM   N=DECIDE        T=AT-START-DA   !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C=CALL-FILE   I=IF          O=DEFINE-DATA   U=AT-TOP-PAGE   !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D=DO          J=IF-NOREC    P=BEFORE-BREAK  V=AT-END-PAGE   +---+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E=ON-ERROR    K=SORT        Q=AT-END-DATA   W=READ-WORK     !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F=FIND        L=FOR         R=REPEAT        Y=SELECT        !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c=DEFINE-CLASS i=INTERFACE  m=METHOD        p=PROPERTY      !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s=READ RESULT                                              -+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                                                             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+---- Reference to corresponding                              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!     OPEN construct statement.                                  !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V                                                                V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****!****************************************************!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    !               Source:   TMIGTR01                   ! Structure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0 ****!****************************************************!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3     !* TMIGTR01 - TRIGGER FOR FTS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6     !****************************************************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09     !* ALL MODIFICATIONS SHOULD BE MADE TO TMIGTRPC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12     !*                 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15     !* SPECIAL NOTE FOR PROOF-OF-CONCEPT TRIGGER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18     !* 1. MODIFY TMIGTRPC AS NEEDED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21     !* 2. N/A.         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24     !* 3. MODIFY CODE TO USE LDA TMIGTLPC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27     !* 4. MODIFY CODE TO USE LDA TMIGTSPC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30     !* 5. MODIFY CODE TO USE LDA TMIGTTPC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33     !* 6. STOW TMIGTRPC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36     !* 7. COPY TMIGTRPC TO SYSSPT ON PROOF-OF-CONCEPT FNA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39     !* 8. RENAME TMIGTRPC TO TMIGTR01 IN SYSSPT ON POC FN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42     !*                 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45     !* SPECIAL NOTE FOR PRODUCTION TRIGGER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48     !* 1. COPY TMIGTRPC TO TMIGTRPR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51     !* 2. N/A.         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54     !* 3. MODIFY CODE TO USE LDA TMIGTLPR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57     !* 4. MODIFY CODE TO USE LDA TMIGTSPR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60     !* 5. MODIFY CODE TO USE LDA TMIGTTPR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63     !* 6. STOW TMIGTRPR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66     !* 7. MIGRATE TO PRODUCTION ENVIRONMENTS PER PLAN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69     !*                         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72     !* SPECIAL NOTE FOR TEST       TRIGGER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+..Current Source Size: 201915 Char. Free: 1350 ..+... S 3086 L 1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1A56-4F66-4269-9F93-7FDA2AC183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677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76320"/>
            <a:ext cx="7543800" cy="6781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                                      &gt; +  Text                 Lib SAGFTS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+....1....+....2....+....3....+....4....+....5....+.Mod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3     !            #FWD-FNR := TRANSA444.RF-A444-TF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6     !            #RULE-CAT:= 'QA'     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9     !            #RULE-TD := #FWD-DBID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2     !            #RULE-TF := #FWD-FNR 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5     !            IF #ACTION-STACK-ACTION(#ACTION-STACK-I)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8     !              PERFORM VISTA-RULES-DELETE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1 2895!            END-IF                   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4     !            IF #ACTION-STACK-ACTION(#ACTION-STACK-I)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7     !              PERFORM VISTA-RULES-ADD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0 2904!            END-IF                   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3     !            IF #RC NE 0 ESCAPE BOTTOM (PA181-LOOP.)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6 2823!          END-READ /*(A181-A191-A444.)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9     !          IF #ACTION-STACK-ACTION(#ACTION-STACK-I) =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2     !            *COUNTER(A181-A191-A444.) = 0  /*V2.011M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5     !            /*IF NO A444 EXISTS, TRY TO DELETE QA RU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8     !            /*  THERE IS A QA RULE THAT GOT THERE AC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1     !            #RULE-CAT:= 'QA' /*V2.011M    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4     !            #RULE-TD := #FWD-DBID /*V2.011M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7     !            #RULE-TF := #FWD-FNR /*V2.011M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0     !            PERFORM VISTA-RULES-DELETE  /*V2.011M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3     !            IF #RC NE 0 ESCAPE BOTTOM (PA181-LOOP.) !SRLLBII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6 2919!          END-IF  /*V2.011M               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9 2796!        END-IF                                      !SRLLBI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2 2625!      END-READ /* (A181-A191.)                      !SRLLB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5 1989!    END-FOR /*(PA181-DDM.)                          !SRLL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8 1953!  END-FOR /* (PA181-ACTION.)                        !SRL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1     !*                         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4     !  ESCAPE BOTTOM (PA181-LOOP.) IMMEDIATE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7     !UNTIL #TRACE = #TRACE     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0 1854!END-REPEAT /*(PA181-LOOP.)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3     !*                  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6     !IF #TRACE COMPRESS NUMERIC 'PGM:' *PROGRAM 'LOC:' 'E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9     !  'SUB:' 'PROCESS-A181' 'RC:' #RC INTO #TRACE-LINE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2     !  PERFORM TRACE-PRINT                             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5 2976!END-IF                                            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8 1797!END-SUBROUTINE     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1     !**************************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4     !DEFINE PROCESS-A1X1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7     !**************************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+..Current Source Size: 201915 Char. Free: 1350 ..+... S 3086 L 9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91520" y="3425760"/>
            <a:ext cx="1600200" cy="2809800"/>
          </a:xfrm>
          <a:prstGeom prst="borderCallout2">
            <a:avLst>
              <a:gd name="adj1" fmla="val 18750"/>
              <a:gd name="adj2" fmla="val -8333"/>
              <a:gd name="adj3" fmla="val 4069"/>
              <a:gd name="adj4" fmla="val -10513"/>
              <a:gd name="adj5" fmla="val 9208"/>
              <a:gd name="adj6" fmla="val -16763"/>
            </a:avLst>
          </a:prstGeom>
          <a:noFill/>
          <a:ln w="25560">
            <a:solidFill>
              <a:srgbClr val="0052b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Line 2943 is an IF within an IF within an IF within a BROWSE within a FOR within a FOR within a REPEAT within a SUBROUT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AD2C-DEEA-40F5-93B4-2B2FAA687ED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TECH, %&lt;TECH Helproutine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-G90P0           ***** Software Distribution System *****           ID-G90M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/ +------------------------- TECH --------------------------+       2 more 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12:25:06                                     02/25/2003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Last Error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Error Number ....... 0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Error Line .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Object .....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R !   Object Type 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Level ......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Library ............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DBID/FNR ...........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Error Class 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Error Type .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Error Time .........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!   Error Transaction ..                                  ! t (PF11) key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+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m Help  Main  Retrn       Flip  Pref  Bkwrd Frwrd       Left  Right Q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E4B3-270F-4F75-AF2B-245D510564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677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76320"/>
            <a:ext cx="7543800" cy="6781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                                      &gt; +  Text                 Lib SAGFTS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+....1....+....2....+....3....+....4....+....5....+.Mod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3     !            #FWD-FNR := TRANSA444.RF-A444-TF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6     !            #RULE-CAT:= 'QA'     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89     !            #RULE-TD := #FWD-DBID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2     !            #RULE-TF := #FWD-FNR      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5     !            IF #ACTION-STACK-ACTION(#ACTION-STACK-I)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898     !              PERFORM VISTA-RULES-DELETE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1 2895!            END-IF                   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4     !            IF #ACTION-STACK-ACTION(#ACTION-STACK-I)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07     !              PERFORM VISTA-RULES-ADD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0 2904!            END-IF                                 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3     !            IF #RC NE 0 ESCAPE BOTTOM (PA181-LOOP.) !SRLLBIB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6 2823!          END-READ /*(A181-A191-A444.)              !SRLLBIB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9     !          IF #ACTION-STACK-ACTION(#ACTION-STACK-I) =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2     !            *COUNTER(A181-A191-A444.) = 0  /*V2.011M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5     !            /*IF NO A444 EXISTS, TRY TO DELETE QA RU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28     !            /*  THERE IS A QA RULE THAT GOT THERE AC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1     !            #RULE-CAT:= 'QA' /*V2.011M    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4     !            #RULE-TD := #FWD-DBID /*V2.011M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37     !            #RULE-TF := #FWD-FNR /*V2.011M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0     !            PERFORM VISTA-RULES-DELETE  /*V2.011M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3     !            IF #RC NE 0 ESCAPE BOTTOM (PA181-LOOP.) !SRLLBIII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6 2919!          END-IF  /*V2.011M                         !SRLLBII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49 2796!        END-IF                                      !SRLLBI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2 2625!      END-READ /* (A181-A191.)                      !SRLLB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5 1989!    END-FOR /*(PA181-DDM.)                          !SRLL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58 1953!  END-FOR /* (PA181-ACTION.)                        !SRL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1     !*                         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4     !  ESCAPE BOTTOM (PA181-LOOP.) IMMEDIATE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67     !UNTIL #TRACE = #TRACE     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0 1854!END-REPEAT /*(PA181-LOOP.)                          !SR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3     !*                  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6     !IF #TRACE COMPRESS NUMERIC 'PGM:' *PROGRAM 'LOC:' 'E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79     !  'SUB:' 'PROCESS-A181' 'RC:' #RC INTO #TRACE-LINE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2     !  PERFORM TRACE-PRINT                             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5 2976!END-IF                                              !SI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88 1797!END-SUBROUTINE     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1     !**************************                          !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4     !DEFINE PROCESS-A1X1       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97     !**************************                          !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+..Current Source Size: 201915 Char. Free: 1350 ..+... S 3086 L 9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20" y="2438280"/>
            <a:ext cx="1447560" cy="2806920"/>
          </a:xfrm>
          <a:prstGeom prst="borderCallout2">
            <a:avLst>
              <a:gd name="adj1" fmla="val 18750"/>
              <a:gd name="adj2" fmla="val -8333"/>
              <a:gd name="adj3" fmla="val 4074"/>
              <a:gd name="adj4" fmla="val 130921"/>
              <a:gd name="adj5" fmla="val 43324"/>
              <a:gd name="adj6" fmla="val 158444"/>
            </a:avLst>
          </a:prstGeom>
          <a:noFill/>
          <a:ln w="25560">
            <a:solidFill>
              <a:srgbClr val="0052b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316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Easy to match end-of-blocks with beginn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15920">
              <a:buClr>
                <a:srgbClr val="0052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END-IF on 2946 goes with IF on 29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15920">
              <a:buClr>
                <a:srgbClr val="0052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END-IF on 2949 goes with IF on 27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15920">
              <a:buClr>
                <a:srgbClr val="0052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2ba"/>
                </a:solidFill>
                <a:latin typeface="Times New Roman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004A-35AA-4302-B642-06DEF811829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Large Terminal Screens</a:t>
            </a: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6324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3270 Model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219320" y="1676520"/>
          <a:ext cx="66294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een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9394-7E07-42BF-98E5-8EF065FBA4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Model 4 Terminal Scree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143000"/>
            <a:ext cx="7543800" cy="57150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gt;                                       &gt; +  Subprogram  TMIGTR01 Lib SAGFTS2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.+....1....+....2....+....3....+....4....+....5....+.Mode Structu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83             #FWD-FNR := TRANSA444.RF-A444-TF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86             #RULE-CAT:= 'QA'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89             #RULE-TD := #FWD-DBID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92             #RULE-TF := #FWD-FNR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95             IF #ACTION-STACK-ACTION(#ACTION-STACK-I) = 'D'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98               PERFORM VISTA-RULES-DELETE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01             END-IF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04             IF #ACTION-STACK-ACTION(#ACTION-STACK-I) = 'A'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07               PERFORM VISTA-RULES-ADD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10             END-IF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13             IF #RC NE 0 ESCAPE BOTTOM (PA181-LOOP.) IMMEDIATE END-IF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16           END-READ /*(A181-A191-A444.)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19           IF #ACTION-STACK-ACTION(#ACTION-STACK-I) = 'D' AND /*V2.011M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22             *COUNTER(A181-A191-A444.) = 0  /*V2.011M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25             /*IF NO A444 EXISTS, TRY TO DELETE QA RULE ANYWAY JUST IN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28             /*  THERE IS A QA RULE THAT GOT THERE ACCIDENTALLY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31             #RULE-CAT:= 'QA' /*V2.011M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34             #RULE-TD := #FWD-DBID /*V2.011M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37             #RULE-TF := #FWD-FNR /*V2.011M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40             PERFORM VISTA-RULES-DELETE  /*V2.011M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43             IF #RC NE 0 ESCAPE BOTTOM (PA181-LOOP.) IMMEDIATE END-IF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46           END-IF  /*V2.011M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49         END-IF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52       END-READ /* (A181-A191.)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55     END-FOR /*(PA181-DDM.)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58   END-FOR /* (PA181-ACTION.)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61 *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64   ESCAPE BOTTOM (PA181-LOOP.) IMMEDIATE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67 UNTIL #TRACE = #TRACE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70 END-REPEAT /*(PA181-LOOP.)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73 *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76 IF #TRACE COMPRESS NUMERIC 'PGM:' *PROGRAM 'LOC:' 'ENDSUB'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79   'SUB:' 'PROCESS-A181' 'RC:' #RC INTO #TRACE-LINE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82   PERFORM TRACE-PRINT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85 END-IF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88 END-SUBROUTINE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91 **************************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94 DEFINE PROCESS-A1X1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97 **************************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.+..Current Source Size: 125877 Char. Free: 77388 .+... S 3071 L 96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3886200"/>
            <a:ext cx="3505320" cy="2809800"/>
          </a:xfrm>
          <a:prstGeom prst="cloudCallout">
            <a:avLst>
              <a:gd name="adj1" fmla="val 10009"/>
              <a:gd name="adj2" fmla="val -40847"/>
            </a:avLst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ba"/>
                </a:solidFill>
                <a:latin typeface="Times New Roman"/>
              </a:rPr>
              <a:t>When editing Natural programs, use model 4 terminal type to work with 39 lines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1676520"/>
            <a:ext cx="914400" cy="2514600"/>
          </a:xfrm>
          <a:custGeom>
            <a:avLst/>
            <a:gdLst>
              <a:gd name="textAreaLeft" fmla="*/ 0 w 914400"/>
              <a:gd name="textAreaRight" fmla="*/ 33012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ba"/>
                </a:solidFill>
                <a:latin typeface="Times New Roman"/>
              </a:rPr>
              <a:t>What you would see</a:t>
            </a:r>
            <a:br>
              <a:rPr sz="2000"/>
            </a:br>
            <a:r>
              <a:rPr b="1" lang="en-US" sz="2000" spc="-1" strike="noStrike">
                <a:solidFill>
                  <a:srgbClr val="0052ba"/>
                </a:solidFill>
                <a:latin typeface="Times New Roman"/>
              </a:rPr>
              <a:t>with a model 2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4" idx="6"/>
            <a:endCxn id="362" idx="2"/>
          </p:cNvCxnSpPr>
          <p:nvPr/>
        </p:nvCxnSpPr>
        <p:spPr>
          <a:xfrm flipV="1">
            <a:off x="4571640" y="4203000"/>
            <a:ext cx="1220040" cy="26280"/>
          </a:xfrm>
          <a:prstGeom prst="straightConnector1">
            <a:avLst/>
          </a:prstGeom>
          <a:ln w="25560">
            <a:solidFill>
              <a:srgbClr val="0052ba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4343400" y="4114800"/>
            <a:ext cx="228600" cy="22860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1523880"/>
            <a:ext cx="228600" cy="22860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6"/>
            <a:endCxn id="362" idx="0"/>
          </p:cNvCxnSpPr>
          <p:nvPr/>
        </p:nvCxnSpPr>
        <p:spPr>
          <a:xfrm>
            <a:off x="4571640" y="1638360"/>
            <a:ext cx="1220040" cy="25920"/>
          </a:xfrm>
          <a:prstGeom prst="straightConnector1">
            <a:avLst/>
          </a:prstGeom>
          <a:ln w="25560">
            <a:solidFill>
              <a:srgbClr val="0052ba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6801-4F61-4C3E-B80A-A625B19A63D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Model 5 Terminal Scree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77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52ba"/>
                </a:solidFill>
                <a:latin typeface="Times New Roman"/>
              </a:rPr>
              <a:t>When viewing printouts, use model 5 terminal type to see 132 characters per line. (TSO shown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52ba"/>
                </a:solidFill>
                <a:latin typeface="Times New Roman"/>
              </a:rPr>
              <a:t>Model 5 screens are supported by Natural ISPF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1905120"/>
            <a:ext cx="9067680" cy="18288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5:00:20                                        ***** NATURAL TEST UTILITIES *****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/10/03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SAJGB31D                                               DBLOG  Trace                                          Library SAJGB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. Cmd  DBID Rsp         ISN        ISQ CID       Op1 FBL  SBL  IBL  Additions 1      Additions 3      Global Format ID  Progra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NR             ISL   Reserved CID(Hex)  Op2 RBL  VBL       Additions 2      Additions 4      Time     User     Line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RC   213 0000          0          0            F  0000 0000 0000 0000000000000000 0000000000000000 0000000000000000  ATES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      0          N 00000000      0000 0000      00000003         0000000000000000 00000000 00000000 655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L3   213 0000        477          0  ???          0024 0008 0000 C1C5BBCA40404040 0000000000000000 F8BA2D70A690F929  READEM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               0          N 00100101   V  0042 0014      009D0042         0000000000000000 00000039 00000000 001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4343400"/>
            <a:ext cx="9067680" cy="19810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-JOB:SAJGB* ---------------------------------- Row 0 of 6 - Columns 026 128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AND===&gt;                                                    SCROLL===&gt; CSR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OBNAME  TYP JOBNO   Q C PR  DEST    STAT  OWNER    STEP     PROC     CPU     REG   IO     RECORDS EXECUTION START    END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 ********************************************************** top of list *******************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1   TSU 0000839 H X 009 LOCAL         SAJGB1                                              197 20060413  10:20:39 20060413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    TSU 0000833 H X 009 LOCAL         SAJGB                                               201 20060413  09:41:46 20060413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    TSU 0000832 H X 009 LOCAL         SAJGB                                               196 20060413  09:40:15 20060413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    TSU 0000269 H X 009 LOCAL         SAJGB                                               205 20060412  13:14:25 20060412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    TSU 0009532 H X 009 LOCAL         SAJGB                                               205 20060407  09:35:07 20060407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JGB    TSU 0000840 X   015               SAJGB    IKJTSO              0.14   4924    337      35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 ******************************************************** bottom of list ******************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70F6-2DF5-4B2B-9CF6-BA8469C20C3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Model 5 Terminal Scree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 LIST command allows you to view up to 126 characters of long lin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tor (displays first 72 character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15720">
              <a:buClr>
                <a:srgbClr val="0052ba"/>
              </a:buClr>
              <a:buSzPct val="80000"/>
              <a:buFont typeface="Wingdings" charset="2"/>
              <a:buChar char="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 Command  (displays first 126 character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3886200"/>
            <a:ext cx="9067680" cy="1295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:37:36  Program     WIDE1    Library SYSTEM   (Work) User SAJGB    2006-04-13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10 ---------0---------0---------0---------0---------0---------0---------0 --------0---------0---------1---------1---------1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20 ---------1---------2---------3---------4---------5---------6---------7 --------8---------9---------0---------1---------2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30 ---------0---------0---------0---------0---------0---------0---------0 --------0---------0---------0---------0---------0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40 THIS IS A VERY LONG LINE. YOU CAN USE MODEL 5 TERMINALS TO SEE BEYOND COLUMN 72. SOMETIMES IT CAN BE ADVANTAGEOUS.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*** End of list *****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2057400"/>
            <a:ext cx="8610840" cy="14479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                                      &gt; +  Program     WIDE1    Lib SYSTE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    ....+....1....+....2....+....3....+....4....+....5....+....6....+....7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0010 ---------0---------0---------0---------0---------0---------0---------0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0020 ---------1---------2---------3---------4---------5---------6---------7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0030 ---------0---------0---------0---------0---------0---------0---------0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 0040 THIS IS A VERY LONG LINE. YOU CAN USE MODEL 5 TERMINALS TO SEE BEYOND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50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2438280"/>
            <a:ext cx="457200" cy="9907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885E-7226-4FB3-AD54-513A743C9D0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Model 5 Terminal Scree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 Command on Model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20" y="1752480"/>
            <a:ext cx="9067680" cy="21337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:55:42  - STRUCTURED SOURCE STRUCT1 IN LIBRARY YSAJGB -          2006-10-20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     0010 * STRUCT1 DEMO STRUCT COMMAND                                                   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     0020 DEFINE DATA LOCAL                                                               *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     0030 1 EMP VIEW OF EMPLOYEES                                                         *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     0040   2 NAME    2 FIRST-NAME   2 PERSONNEL-ID  2 CITY   2 ADDRESS-LINE(1)           *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0020 0050 END-DEFINE                                                                      *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00      0060 READ (1) EMP BY NAME = 'A'                                                      *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01      0070   IF NAME = 'ADAMS'                                                             *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01      0080     WRITE 'AH, HA! I HAVE FOUND AN ADAMS.I CAN TEST MY OTHER PROGRAMS.'         *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01 0070 0090   END-IF                                                                        *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00 0060 0100 END-READ                                                                        *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000      0110 END                                                                             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F1=HELP, PF2=MENU, PF3=EXIT, PF6=TOP, PF12=CANCE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FEDF-1180-45EB-BBD5-8FF0613477B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, Unix/Linux, Windows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eleton source code saved as a pro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source variables are used to replace "missing pieces" of source code at compile-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source variable has the same name as the corresponding Application Independent Variable (AIV), but uses an ampersand (&amp;) instead of a plus sign (+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IV must be set to the "missing" source code in a build pro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 build program RUNs the skeleton pro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90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is worth a thousand wor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C8F4-63E3-4E7B-9CA2-70082784498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eleton Progra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Progra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676520"/>
            <a:ext cx="8610840" cy="160020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DYN106P Read EMPLOYEES file by key chosen by end-user.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This is a skeleton dynamic source program.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 EMPLOYEES BY &amp;KEY   /*&amp;KEY is a dynamic source variable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                   /*The value in AIV +KEY will be substit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                   /*in this position by the compiler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PERSONNEL-ID NAME FIRST-NAME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3733920"/>
            <a:ext cx="8610840" cy="236196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DYN105P End-user chooses search field.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This program sets the AIV to the missing source code.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 +KEY(A32)      /*Define AIV to store source code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 ALL '_' TO +KEY /*Initialize as you see fit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KEY PF1 = HELP   /*Set HELP key for selection box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(AD=A'_' IP=OFF SG=OFF)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EMPLOYEES FILE DYNAMIC QUERY'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'CHOOSE SEARCH KEY:'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KEY (AD=O SB='PERSONNEL-ID','NAME') /* Provide selection box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SUBSTR(+KEY,1,1) = '_' REINPUT 'PLEASE CHOOSE A KEY FOR YOUR QUER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UN 'DYN106P'        /* Run the dynamic source program skeleton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E527-E99F-440D-8CC1-C9B72587E44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Natural TECH, %&lt;TECH Helproutine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76520"/>
            <a:ext cx="8610840" cy="47242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-G90P0           ***** Software Distribution System *****           ID-G90M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/ +------------------------- TECH --------------------------+       2 more 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12:25:09                                     02/25/2003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Steplib   DBID  FNR       Object   Type Level Number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--------  ----- -----     -------- ---- ----- ------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SMARTLIB  200   9         ID-G90P0   P     1   1895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SYSTEM    200   9         ID-G90M0   M     2   0058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SAGASTEP  200   9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R !   SYSTEM    200   9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SYSTEM    200   8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                                                        !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!                                                         ! t (PF11) key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+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ter-PF1---PF2---PF3---PF4---PF5---PF6---PF7---PF8---PF9---PF10--PF11--PF12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m Help  Main  Retrn       Flip  Pref  Bkwrd Frwrd       Left  Right Q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286000"/>
            <a:ext cx="1218960" cy="1905120"/>
          </a:xfrm>
          <a:prstGeom prst="ellipse">
            <a:avLst/>
          </a:prstGeom>
          <a:noFill/>
          <a:ln w="255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38480" y="1981080"/>
            <a:ext cx="3352680" cy="1600200"/>
            <a:chOff x="4038480" y="1981080"/>
            <a:chExt cx="3352680" cy="1600200"/>
          </a:xfrm>
        </p:grpSpPr>
        <p:sp>
          <p:nvSpPr>
            <p:cNvPr id="116" name=""/>
            <p:cNvSpPr/>
            <p:nvPr/>
          </p:nvSpPr>
          <p:spPr>
            <a:xfrm>
              <a:off x="4038480" y="1981080"/>
              <a:ext cx="1219320" cy="1600200"/>
            </a:xfrm>
            <a:prstGeom prst="ellipse">
              <a:avLst/>
            </a:prstGeom>
            <a:noFill/>
            <a:ln w="25560">
              <a:solidFill>
                <a:srgbClr val="0052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72200" y="1981080"/>
              <a:ext cx="1218960" cy="1600200"/>
            </a:xfrm>
            <a:prstGeom prst="ellipse">
              <a:avLst/>
            </a:prstGeom>
            <a:noFill/>
            <a:ln w="25560">
              <a:solidFill>
                <a:srgbClr val="0052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66880" y="3809880"/>
            <a:ext cx="5029200" cy="2511720"/>
            <a:chOff x="2666880" y="3809880"/>
            <a:chExt cx="5029200" cy="2511720"/>
          </a:xfrm>
        </p:grpSpPr>
        <p:sp>
          <p:nvSpPr>
            <p:cNvPr id="119" name=""/>
            <p:cNvSpPr/>
            <p:nvPr/>
          </p:nvSpPr>
          <p:spPr>
            <a:xfrm>
              <a:off x="3886200" y="3809880"/>
              <a:ext cx="3809880" cy="1828800"/>
            </a:xfrm>
            <a:prstGeom prst="wedgeRoundRectCallout">
              <a:avLst>
                <a:gd name="adj1" fmla="val -59624"/>
                <a:gd name="adj2" fmla="val 29425"/>
                <a:gd name="adj3" fmla="val 16667"/>
              </a:avLst>
            </a:prstGeom>
            <a:noFill/>
            <a:ln w="25560">
              <a:solidFill>
                <a:srgbClr val="0052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your error handing routines you can call USR2026N to get this same inform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2666880" y="5181480"/>
              <a:ext cx="1108080" cy="11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EEC5-FC87-4C31-B78A-DC9410A71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e DYN105P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 &lt;PF1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t cursor on "PERSONNEL-ID" and press &lt;ENTER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1600200"/>
            <a:ext cx="8610840" cy="5335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________________________________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2666880"/>
            <a:ext cx="8610840" cy="12193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________________________________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Top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RSONNEL-ID      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NAME              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Bott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4419720"/>
            <a:ext cx="8610840" cy="53316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PERSONNEL-ID                    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5892-CB69-4B5A-B349-17B22919226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 &lt;ENTER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1600200"/>
            <a:ext cx="8610840" cy="4495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RE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      1                                                  06-10-10  19:5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NEL         NAME              FIRST-NAME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 -------------------- --------------------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2  SCHINDLER            EDGAR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5  SCHIRM               CHRISTIAN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6  SCHMITT              REINER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7  SCHMIDT              HELGA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8  SCHNEIDER            WOLFGANG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09  SCHNEIDER            CHRISTA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0  BUNGERT              GEORG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1  THIELE               GABRIELE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2  THOMA                GERHARDT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3  TREIBER              KLAUS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4  UNGER                KLAUS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5  VETTER               MARION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6  VOGEL                ROLAND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7  WABER                MARTIN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118  WAGNER               ROLF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301  BERGMANN             HANS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100302  HAIBACH              ROSWITH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3AA6-2DA4-4C55-9C58-DC5014A6286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e DYN105P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 &lt;PF1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t cursor on "NAME" and press &lt;ENTER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600200"/>
            <a:ext cx="8610840" cy="5335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________________________________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2666880"/>
            <a:ext cx="8610840" cy="121932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________________________________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---Top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PERSONNEL-ID      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!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ME                            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--------------------Bott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4419720"/>
            <a:ext cx="8610840" cy="53316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S FILE DYNAMIC QUERY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OOSE SEARCH KEY: NAME                            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F1D7-82E6-4046-9107-49B0EB4E77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ynamic Source Program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374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 &lt;ENTER&gt;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spcBef>
                <a:spcPts val="374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1600200"/>
            <a:ext cx="8610840" cy="4495680"/>
          </a:xfrm>
          <a:prstGeom prst="roundRect">
            <a:avLst>
              <a:gd name="adj" fmla="val 2324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RE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      1                                                  06-10-10  19:58: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NEL         NAME              FIRST-NAME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 -------------------- --------------------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0008339  ABELLAN              KEPA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000231  ACHIESON             ROBERT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05700  ADKINSON             TIMMIE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08600  ADKINSON             MARTHA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08800  ADKINSON             JEFF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09800  ADKINSON             PHYLLIS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1000  ADKINSON             BOB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2700  ADKINSON             HAZEL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3800  ADKINSON             DAVID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9600  ADKINSON             CHARLIE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300313  AECKERLE             SUSANNE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3600  AFANASSIEV           PHILIP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23500  AFANASSIEV           ROSE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000512  AHL                  FLEMMING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021544  AKROYD               ELIZABETH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0008217  ALEMAN               SARA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0008410  ALESTIA              GORK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9D22-0F6B-49D4-A998-6C8067BC774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2004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nitoring and Productiv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1" lang="en-US" sz="44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28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676520" y="205740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52ba"/>
                </a:solidFill>
                <a:latin typeface="Times New Roman"/>
              </a:rPr>
              <a:t>Natural Debugger (TEST)</a:t>
            </a:r>
            <a:br>
              <a:rPr sz="4400"/>
            </a:br>
            <a:r>
              <a:rPr b="1" lang="en-US" sz="1800" spc="-1" strike="noStrike">
                <a:solidFill>
                  <a:srgbClr val="0052ba"/>
                </a:solidFill>
                <a:latin typeface="Times New Roman"/>
              </a:rPr>
              <a:t>(Mainframe)</a:t>
            </a:r>
            <a:endParaRPr b="1" lang="en-US" sz="1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3080" y="521928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267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52ba"/>
                </a:solidFill>
                <a:latin typeface="Times New Roman"/>
              </a:rPr>
              <a:t>Debugger Major Functions</a:t>
            </a:r>
            <a:endParaRPr b="1" lang="en-US" sz="2800" spc="-1" strike="noStrike">
              <a:solidFill>
                <a:srgbClr val="0052b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eak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execution at selected stat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execution when variable value chan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Stat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objects u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 Execution Stat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statements executed and not execu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 Mainten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and modify variable val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 Sourc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source code of Natural obj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spcBef>
                <a:spcPts val="751"/>
              </a:spcBef>
              <a:buClr>
                <a:srgbClr val="0052ba"/>
              </a:buClr>
              <a:buFont typeface="Wingdings" charset="2"/>
              <a:buChar char="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 Call Trace (DBLOG Utilit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 Adabas, SQL, and DL/I cal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137160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Collectively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    Known a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Sp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4ECE-C6A0-413B-922B-819B7CFF0518}" type="slidenum">
              <a:t>9</a:t>
            </a:fld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3:24:12Z</dcterms:created>
  <dc:creator>James Bando</dc:creator>
  <dc:description>Copyright 2003 Software AG, Inc., All Rights Reserved
Natural Conference 2006</dc:description>
  <dc:language>en-US</dc:language>
  <cp:lastModifiedBy>sajgb</cp:lastModifiedBy>
  <cp:lastPrinted>2002-09-09T23:42:27Z</cp:lastPrinted>
  <dcterms:modified xsi:type="dcterms:W3CDTF">2006-10-25T23:06:54Z</dcterms:modified>
  <cp:revision>949</cp:revision>
  <dc:subject/>
  <dc:title>Natural Monitoring and Productivity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Date">
    <vt:lpwstr>June 4, 2003</vt:lpwstr>
  </property>
</Properties>
</file>